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0A80-718F-4EE4-8183-CCD537928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B0CD-90A4-45F5-9852-16A6F520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CAB9-3E07-4655-AAE8-1C6AB0813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5E2F-DFFB-4AEC-980B-0DD23ED67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0A3C-876B-4547-82D9-F3C462779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6BBA-65BB-43DC-9A3D-BB58CA59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7AAA-059C-4F74-96AC-C8E9BC1B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685F-5622-4970-82DF-1063789F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7234-1B36-4401-972D-EC39F21D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C6159-72EC-4ACC-B491-25F0F332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B2C5-6742-4B2A-B02D-C39827D0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ED0D-EC03-4AE0-B6F5-44B9297E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A342-AC57-47C0-ADF9-179610D9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3A97-B0C1-412A-90BA-F4D9641A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95A60-33BD-465A-8AB2-09D608E2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F98A-3319-4D7D-9760-31B816B9F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93869-CD70-411F-B58E-73F0D39E4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1979-A595-414F-8BB5-D9AE575B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6BC6-6058-4667-B92C-2CF119CC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B441-084B-4375-8C11-2DB57823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7403-C965-4A69-8F60-546E8C89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8B01-9EEB-4CA0-A543-F89602D8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78D0-3637-4FB2-BF3C-A42212AE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8B6F-983F-4E06-873C-D369CA16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Ribbon131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ibbon131 BT"/>
              </a:rPr>
              <a:t>M. Guym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easant Grove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ring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4D76-A475-40D7-BA5D-6F533D40D77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Ribbon131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ibbon131 BT"/>
              </a:rPr>
              <a:t>M. Guym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easant Grove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ring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7E3E-439B-46EC-B5D0-BD104D61AC7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Network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uter Technolo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y 1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arsons, June Jamrich, and Dan Oja.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Computer Concept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 Boston: Course Technology - Thompson Learning, 2002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twor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wo or more computers and other devices (printers or scanners) that are connected, for the purpose of sharing data and program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952880" y="2081160"/>
            <a:ext cx="350532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twork Ter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le 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computer connected to a network that distributes resources to other us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tains the software to manage and process files for other network use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st Comput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fers to any computer the provides services to network us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Used more commonly with the Internet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twork Terms (continued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orks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fers to a personal computer connected to a networ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computer in the classro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fers to the software on a computer that allows the user to access the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vell Netwa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1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10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twork Interface Card (NIC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2920" y="1752120"/>
            <a:ext cx="3924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mall circuit board that coverts the digital signals from a computer into signals that can travel over a network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sktop Computers have the NIC inside the case with a jack on the outside for the network cabl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Our classroom comput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otebook or Laptop Computers have a special card that fits into a slot or opening in the cas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icture on this slide is the NIC for a Notebook or Laptop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04920" y="2590920"/>
            <a:ext cx="464652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1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twork Connections Devic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de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device that sends and receives data to and from computers over telephone lin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ub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device that connects several components of a network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oute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device that connects at least two networ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atewa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device that serves as an entrance to another networ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ll of these can be used alone or combin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1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1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1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ocal Area Network (LAN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39621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uter network that is located within a limited geographical area, such as a school or small busin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SJMS Networ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683160" y="2162160"/>
            <a:ext cx="176832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ide Area Network (WAN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terconnected group of computers and peripherals that cover a large geographical area, such as multiple building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he Jordan School District Network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he Intern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715000" y="3429000"/>
            <a:ext cx="276084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P Address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unique identifying number assigned to each computer connected to the interne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 – 204.127.102.00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computer on a network should have its own separate IP Address or conflicts will occur when there are duplicate address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6T18:11:27Z</dcterms:created>
  <dc:creator>Michelle Guymon</dc:creator>
  <dc:description/>
  <dc:language>en-US</dc:language>
  <cp:lastModifiedBy>larry.phelps</cp:lastModifiedBy>
  <dcterms:modified xsi:type="dcterms:W3CDTF">2006-03-22T23:03:17Z</dcterms:modified>
  <cp:revision>24</cp:revision>
  <dc:subject/>
  <dc:title>Networks</dc:title>
</cp:coreProperties>
</file>